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3.jpeg" ContentType="image/jpeg"/>
  <Override PartName="/ppt/media/image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9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png" ContentType="image/png"/>
  <Override PartName="/ppt/media/image4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DB8C3-666C-4397-894B-8B7DA0F23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CB1A4-A336-4DC0-B0A3-A77061C8B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2F6FD-E51C-4E23-B450-2A36CCA1A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BDB7B-CD4B-4788-8BD9-A8FA03521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86B3A-099A-4046-95AF-CC85015CF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6F752-3F0B-4CC0-AF4B-7855A6390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1C2FA-EABA-4C55-9F73-7E5620C61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298D9-CDBC-45D8-92F1-DB1104933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4D521-BD1C-41BB-9D6B-BC123EA33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1F943-979C-4EFD-9C8E-D45D059E3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AE9CD-5C24-43E6-A3BE-E5139AC0F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835A0-2C2D-4394-AE17-0F498B329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D7B60-97B9-41B8-87F7-29A67FBFA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85566-EA2C-4728-A2E3-CB086E874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E1A0F-95D7-4592-8DFD-D3F698CF3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2776F-BCB0-45D3-9D05-9A1AEC2DD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7C668-8F46-4611-97EC-EF24428EA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77C6A-03ED-4CA5-AB4A-5A77FEB8E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413DC-700A-451A-9B38-8AB450E5E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E57DD-5502-4516-82D8-FC44EFF79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A6429-38CF-4925-9DBB-F0BD430D0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ABE1F-6A6F-4553-8815-2713E255A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9D0FC-BD6B-4E9D-9F67-5A849C81A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7C7FA-24DD-433C-BE68-83EBD6EB3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0" y="6477120"/>
            <a:ext cx="129528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1600200" y="6552720"/>
            <a:ext cx="586728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305920" y="647712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8D764-3AA8-49A9-B442-3CAE86B2006C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80880" cy="838080"/>
          </a:xfrm>
          <a:prstGeom prst="rect">
            <a:avLst/>
          </a:prstGeom>
          <a:ln w="0">
            <a:noFill/>
          </a:ln>
        </p:spPr>
      </p:pic>
      <p:pic>
        <p:nvPicPr>
          <p:cNvPr id="9" name="" descr=""/>
          <p:cNvPicPr/>
          <p:nvPr/>
        </p:nvPicPr>
        <p:blipFill>
          <a:blip r:embed="rId3"/>
          <a:stretch/>
        </p:blipFill>
        <p:spPr>
          <a:xfrm>
            <a:off x="8381880" y="0"/>
            <a:ext cx="762120" cy="473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7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1D1DC-57A8-4FDE-ACA5-380999F70E20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6520" y="304920"/>
            <a:ext cx="731520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European Microlight Championship 2006</a:t>
            </a:r>
            <a:br>
              <a:rPr sz="4400"/>
            </a:b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Paramotor class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33520" y="3429000"/>
            <a:ext cx="8076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ff"/>
                </a:solidFill>
                <a:latin typeface="Times New Roman"/>
              </a:rPr>
              <a:t>Chozas de Abajo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 airfield, León, Spa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19-26 august, 200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990720" y="5486400"/>
            <a:ext cx="1828800" cy="113184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914400" y="533520"/>
            <a:ext cx="857160" cy="188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Meteorology in augus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371600" y="990720"/>
            <a:ext cx="6800760" cy="27082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1371600" y="3809880"/>
            <a:ext cx="6858000" cy="2697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80880" y="1905120"/>
            <a:ext cx="99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Aug</a:t>
            </a: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200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648320"/>
            <a:ext cx="99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Aug</a:t>
            </a: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200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A2E5E-849B-4E22-B292-C2FBCBB5CF86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Air Masters 2004, Leó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228600" y="99072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0" y="1295280"/>
            <a:ext cx="4191120" cy="31435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1371600" y="4000680"/>
            <a:ext cx="3809880" cy="28573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4"/>
          <a:stretch/>
        </p:blipFill>
        <p:spPr>
          <a:xfrm>
            <a:off x="5486400" y="4038480"/>
            <a:ext cx="3048120" cy="2286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F1B91-87C7-46B4-8BBA-C616DE172368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1752480" y="1371600"/>
            <a:ext cx="6096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Venu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ffcc66"/>
                </a:solidFill>
                <a:latin typeface="Arial"/>
              </a:rPr>
              <a:t>Officials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Dat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Class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Entry fees and insuranc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25AF6-60A1-4CE9-AF2C-447480A3024B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Championship offici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Event Director: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José Luis Roldá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Competition Director: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Manuel Re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Deputy director: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Francisco Setié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International Jury (pending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Stewards: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Wolfgang Lintl</a:t>
            </a:r>
            <a:br>
              <a:rPr sz="3200"/>
            </a:b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Carlos Trig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Monitor: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Richard Meredith-Hard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66F5B-D859-492D-821E-BBE19977F575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Event Director:</a:t>
            </a:r>
            <a:br>
              <a:rPr sz="4400"/>
            </a:b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José Luis Roldá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Professional photograph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Paraglider and paramotor pilo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Paraglider instruct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Paraglider and paramotor competiton marsh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Organizer of a Spanish paramotor championship, league event and the Way of Santiago in paramot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Organizer of summer activities for large groups of pleople of all ag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Promotor of air sports through talks, expositons and exhibi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7467480" y="762120"/>
            <a:ext cx="1387440" cy="1782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21A4C-39C5-4D9A-8C26-3B061097381F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133720" y="4572000"/>
            <a:ext cx="2590560" cy="194328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Competition director:</a:t>
            </a:r>
            <a:br>
              <a:rPr sz="4400"/>
            </a:b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Manuel Rey (“Coco”)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572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Aeronautical qualificat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Microlight pilot since 199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ragliding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inc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1989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ragliding instructor since 199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PL (A) licence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since 199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icrolight instructor since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19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9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erobatic licence rating since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19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97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aramotor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pilot since 98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PL(A) licence ME and IR rating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since 199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6248520" y="5257800"/>
            <a:ext cx="1752480" cy="1168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724280" y="1676520"/>
            <a:ext cx="41911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ompeti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Microlight c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ompetit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or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ince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99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panish National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Microlight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hampion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11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tim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6 medals in FAI cat I microlight competit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everal medals in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erobatic Spanish championship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Organizer of several Spanish competition events: 1 national championship, 1 league event, 4 tour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7772400" y="762120"/>
            <a:ext cx="909720" cy="1143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3BEE2-9590-47B4-86C8-89D6E7800C9E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676160" y="1371600"/>
            <a:ext cx="6172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Venu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Official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ffcc66"/>
                </a:solidFill>
                <a:latin typeface="Arial"/>
              </a:rPr>
              <a:t>Dates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Class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Entry fees and insuranc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1CC6E-BA22-40F2-B64D-8CAE1F93CF3F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Championship dates</a:t>
            </a:r>
            <a:br>
              <a:rPr sz="4400"/>
            </a:b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15-26 / August / 2005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11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raining, aircraft inspection, registration:</a:t>
            </a:r>
            <a:br>
              <a:rPr sz="2400"/>
            </a:b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From t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uesday, 15</a:t>
            </a:r>
            <a:r>
              <a:rPr b="0" lang="en-GB" sz="2400" spc="-1" strike="noStrike" baseline="30000">
                <a:solidFill>
                  <a:srgbClr val="ffff00"/>
                </a:solidFill>
                <a:latin typeface="Arial"/>
              </a:rPr>
              <a:t>th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to friday, 18</a:t>
            </a:r>
            <a:r>
              <a:rPr b="0" lang="es-ES" sz="2400" spc="-1" strike="noStrike" baseline="30000">
                <a:solidFill>
                  <a:srgbClr val="ffff00"/>
                </a:solidFill>
                <a:latin typeface="Arial"/>
              </a:rPr>
              <a:t>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11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pening Ceremony:</a:t>
            </a:r>
            <a:br>
              <a:rPr sz="2400"/>
            </a:b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Saturday, 19</a:t>
            </a:r>
            <a:r>
              <a:rPr b="0" lang="en-GB" sz="2400" spc="-1" strike="noStrike" baseline="30000">
                <a:solidFill>
                  <a:srgbClr val="ffff00"/>
                </a:solidFill>
                <a:latin typeface="Arial"/>
              </a:rPr>
              <a:t>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11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irst Competition briefing:</a:t>
            </a:r>
            <a:br>
              <a:rPr sz="2400"/>
            </a:b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Saturday, 19</a:t>
            </a:r>
            <a:r>
              <a:rPr b="0" lang="en-GB" sz="2400" spc="-1" strike="noStrike" baseline="30000">
                <a:solidFill>
                  <a:srgbClr val="ffff00"/>
                </a:solidFill>
                <a:latin typeface="Arial"/>
              </a:rPr>
              <a:t>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11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ntest Flying Days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:</a:t>
            </a:r>
            <a:br>
              <a:rPr sz="2400"/>
            </a:b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From 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s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unday 20</a:t>
            </a:r>
            <a:r>
              <a:rPr b="0" lang="es-ES" sz="2400" spc="-1" strike="noStrike" baseline="30000">
                <a:solidFill>
                  <a:srgbClr val="ffff00"/>
                </a:solidFill>
                <a:latin typeface="Arial"/>
              </a:rPr>
              <a:t>th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to Friday 25</a:t>
            </a:r>
            <a:r>
              <a:rPr b="0" lang="en-GB" sz="2400" spc="-1" strike="noStrike" baseline="30000">
                <a:solidFill>
                  <a:srgbClr val="ffff00"/>
                </a:solidFill>
                <a:latin typeface="Arial"/>
              </a:rPr>
              <a:t>t</a:t>
            </a:r>
            <a:r>
              <a:rPr b="0" lang="es-ES" sz="2400" spc="-1" strike="noStrike" baseline="30000">
                <a:solidFill>
                  <a:srgbClr val="ffff00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11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losing Ceremony, Prize-giving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: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Saturday, 26</a:t>
            </a:r>
            <a:r>
              <a:rPr b="0" lang="en-GB" sz="2400" spc="-1" strike="noStrike" baseline="30000">
                <a:solidFill>
                  <a:srgbClr val="ffff00"/>
                </a:solidFill>
                <a:latin typeface="Arial"/>
              </a:rPr>
              <a:t>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55AD1-2612-4F82-B0E6-E130D21493A8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1600200" y="1371600"/>
            <a:ext cx="6019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Venu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Official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Dat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ffcc66"/>
                </a:solidFill>
                <a:latin typeface="Arial"/>
              </a:rPr>
              <a:t>Classes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Entry fees and insuranc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30753-3A45-4D7B-B0B7-423632EB75B0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Championship class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5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Paramotors: PF1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5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Paramotor trikes: PL1 and PL2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5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Minimum of 4 countries for a valid clas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C6346-1400-421C-8123-A698CAEFBA4A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676160" y="1371600"/>
            <a:ext cx="6172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ffcc66"/>
                </a:solidFill>
                <a:latin typeface="Arial"/>
              </a:rPr>
              <a:t>Venue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Official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Dat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Class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Entry fees and insuranc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145B3-69A8-4D50-89E9-5858506BD9D6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1904760" y="1371600"/>
            <a:ext cx="5715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Venu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Official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Dat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Class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ffcc66"/>
                </a:solidFill>
                <a:latin typeface="Arial"/>
              </a:rPr>
              <a:t>Entry fees and insurance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44348-D9BD-4740-8ACC-BCFBFBDBF81B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Entry fe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4582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ntry fee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400 € for each pilot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400 € for each co-pilot (navigator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200 € for each Team Lead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ree for assistants and oth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ntry fees will be increased by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50 €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after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31</a:t>
            </a:r>
            <a:r>
              <a:rPr b="0" lang="es-ES" sz="24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May 200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ntry fees inclu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mpetition operations (setting, controlling and evaluating the task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ll competition materials (maps, task descriptions, control point atlases, etc.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ree use of the airport and free entry to all official event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amping place for each team with water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and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electric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eferential prices to ea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CE1EB-4FDE-45E8-A739-C1650ACC91F7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Insurance requirement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ird party insurance (not covering passengers)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. M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nimum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150.000 € for PF1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(paramotor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950.000 € for PL1 and PL2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(paramotor trik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assenger insurance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. M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nimum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350.000 € for PL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DD0CA-88FB-4A94-9337-3E49D0DAD93C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cc66"/>
                </a:solidFill>
                <a:latin typeface="Arial"/>
              </a:rPr>
              <a:t>Championship Venue:</a:t>
            </a:r>
            <a:br>
              <a:rPr sz="3600"/>
            </a:br>
            <a:r>
              <a:rPr b="0" i="1" lang="es-ES" sz="3600" spc="-1" strike="noStrike">
                <a:solidFill>
                  <a:srgbClr val="ffcc66"/>
                </a:solidFill>
                <a:latin typeface="Arial"/>
              </a:rPr>
              <a:t>Chozas de Abajo</a:t>
            </a:r>
            <a:r>
              <a:rPr b="0" lang="es-ES" sz="3600" spc="-1" strike="noStrike">
                <a:solidFill>
                  <a:srgbClr val="ffcc66"/>
                </a:solidFill>
                <a:latin typeface="Arial"/>
              </a:rPr>
              <a:t> airfield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447920" y="1219320"/>
            <a:ext cx="6319800" cy="5275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5C188-232F-4C61-8F69-11B9EA060E7C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7631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c66"/>
                </a:solidFill>
                <a:latin typeface="Arial"/>
              </a:rPr>
              <a:t>How to get to the championship venue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457200" y="762120"/>
            <a:ext cx="8229600" cy="5816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7F334-D79D-4AA9-B161-D36640822372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Chozas de Abajo airfiel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143000" y="990720"/>
            <a:ext cx="6781680" cy="5557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D6AC4-BC86-44BD-8320-A0358AAE8712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Chozas de Abajo airfiel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838080" y="838080"/>
            <a:ext cx="7543800" cy="5658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DF721-D5A6-4631-AC57-637AE54F1739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Chozas de Abajo airfiel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762120" y="838080"/>
            <a:ext cx="7543800" cy="565812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8960" y="1523880"/>
            <a:ext cx="6629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cc66"/>
                </a:solidFill>
                <a:latin typeface="Arial"/>
              </a:rPr>
              <a:t>Coordinates:</a:t>
            </a:r>
            <a:br>
              <a:rPr sz="4000"/>
            </a:br>
            <a:r>
              <a:rPr b="0" lang="es-ES" sz="4000" spc="-1" strike="noStrike">
                <a:solidFill>
                  <a:srgbClr val="ffcc66"/>
                </a:solidFill>
                <a:latin typeface="Arial"/>
              </a:rPr>
              <a:t>	</a:t>
            </a:r>
            <a:r>
              <a:rPr b="0" lang="en-GB" sz="4000" spc="-1" strike="noStrike">
                <a:solidFill>
                  <a:srgbClr val="ffcc66"/>
                </a:solidFill>
                <a:latin typeface="Arial"/>
              </a:rPr>
              <a:t>N 42° 30,167</a:t>
            </a:r>
            <a:br>
              <a:rPr sz="4000"/>
            </a:br>
            <a:r>
              <a:rPr b="0" lang="es-ES" sz="4000" spc="-1" strike="noStrike">
                <a:solidFill>
                  <a:srgbClr val="ffcc66"/>
                </a:solidFill>
                <a:latin typeface="Arial"/>
              </a:rPr>
              <a:t>	</a:t>
            </a:r>
            <a:r>
              <a:rPr b="0" lang="en-GB" sz="4000" spc="-1" strike="noStrike">
                <a:solidFill>
                  <a:srgbClr val="ffcc66"/>
                </a:solidFill>
                <a:latin typeface="Arial"/>
              </a:rPr>
              <a:t>W 005° 40,500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cc66"/>
                </a:solidFill>
                <a:latin typeface="Arial"/>
              </a:rPr>
              <a:t>Eleva</a:t>
            </a:r>
            <a:r>
              <a:rPr b="0" lang="es-ES" sz="4000" spc="-1" strike="noStrike">
                <a:solidFill>
                  <a:srgbClr val="ffcc66"/>
                </a:solidFill>
                <a:latin typeface="Arial"/>
              </a:rPr>
              <a:t>t</a:t>
            </a:r>
            <a:r>
              <a:rPr b="0" lang="en-GB" sz="4000" spc="-1" strike="noStrike">
                <a:solidFill>
                  <a:srgbClr val="ffcc66"/>
                </a:solidFill>
                <a:latin typeface="Arial"/>
              </a:rPr>
              <a:t>i</a:t>
            </a:r>
            <a:r>
              <a:rPr b="0" lang="es-ES" sz="4000" spc="-1" strike="noStrike">
                <a:solidFill>
                  <a:srgbClr val="ffcc66"/>
                </a:solidFill>
                <a:latin typeface="Arial"/>
              </a:rPr>
              <a:t>o</a:t>
            </a:r>
            <a:r>
              <a:rPr b="0" lang="en-GB" sz="4000" spc="-1" strike="noStrike">
                <a:solidFill>
                  <a:srgbClr val="ffcc66"/>
                </a:solidFill>
                <a:latin typeface="Arial"/>
              </a:rPr>
              <a:t>n: 895</a:t>
            </a:r>
            <a:r>
              <a:rPr b="0" lang="es-ES" sz="4000" spc="-1" strike="noStrike">
                <a:solidFill>
                  <a:srgbClr val="ffcc66"/>
                </a:solidFill>
                <a:latin typeface="Arial"/>
              </a:rPr>
              <a:t> m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cc66"/>
                </a:solidFill>
                <a:latin typeface="Arial"/>
              </a:rPr>
              <a:t>Strips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cc66"/>
                </a:solidFill>
                <a:latin typeface="Arial"/>
              </a:rPr>
              <a:t>Grass: </a:t>
            </a:r>
            <a:r>
              <a:rPr b="0" lang="en-GB" sz="4000" spc="-1" strike="noStrike">
                <a:solidFill>
                  <a:srgbClr val="ffcc66"/>
                </a:solidFill>
                <a:latin typeface="Arial"/>
              </a:rPr>
              <a:t>18/36</a:t>
            </a:r>
            <a:r>
              <a:rPr b="0" lang="es-ES" sz="4000" spc="-1" strike="noStrike">
                <a:solidFill>
                  <a:srgbClr val="ffcc66"/>
                </a:solidFill>
                <a:latin typeface="Arial"/>
              </a:rPr>
              <a:t>, </a:t>
            </a:r>
            <a:r>
              <a:rPr b="0" lang="en-GB" sz="4000" spc="-1" strike="noStrike">
                <a:solidFill>
                  <a:srgbClr val="ffcc66"/>
                </a:solidFill>
                <a:latin typeface="Arial"/>
              </a:rPr>
              <a:t>800x50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cc66"/>
                </a:solidFill>
                <a:latin typeface="Arial"/>
              </a:rPr>
              <a:t>Grass</a:t>
            </a:r>
            <a:r>
              <a:rPr b="0" lang="en-GB" sz="4000" spc="-1" strike="noStrike">
                <a:solidFill>
                  <a:srgbClr val="ffcc66"/>
                </a:solidFill>
                <a:latin typeface="Arial"/>
              </a:rPr>
              <a:t>: 09/27</a:t>
            </a:r>
            <a:r>
              <a:rPr b="0" lang="es-ES" sz="4000" spc="-1" strike="noStrike">
                <a:solidFill>
                  <a:srgbClr val="ffcc66"/>
                </a:solidFill>
                <a:latin typeface="Arial"/>
              </a:rPr>
              <a:t>, </a:t>
            </a:r>
            <a:r>
              <a:rPr b="0" lang="en-GB" sz="4000" spc="-1" strike="noStrike">
                <a:solidFill>
                  <a:srgbClr val="ffcc66"/>
                </a:solidFill>
                <a:latin typeface="Arial"/>
              </a:rPr>
              <a:t>300x50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6F1E6-2428-42C7-A5D3-C0EB12D614B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380880" y="1066680"/>
            <a:ext cx="5181840" cy="388620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Chozas de Abajo airfiel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3809880" y="2724120"/>
            <a:ext cx="4800600" cy="3600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57C00-34F2-4FDD-9AC8-F8B3F78940E2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Chozas de Abajo airfiel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209680" y="914400"/>
            <a:ext cx="4734000" cy="5533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0F095-3830-4CB9-B470-91C125DD108C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0T15:12:35Z</dcterms:created>
  <dc:creator>José Luis Esteban</dc:creator>
  <dc:description/>
  <dc:language>en-US</dc:language>
  <cp:lastModifiedBy>FAI</cp:lastModifiedBy>
  <dcterms:modified xsi:type="dcterms:W3CDTF">2005-11-22T10:50:18Z</dcterms:modified>
  <cp:revision>21</cp:revision>
  <dc:subject/>
  <dc:title>Bid for WMC 2007 (Classics)</dc:title>
</cp:coreProperties>
</file>